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2E2F-E093-4F46-A687-0ED8371F2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1D5F-2188-46FB-80B8-06771501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1135-A70B-4A7F-BE9C-7B961566E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E245-8BD4-4115-9A16-5395F8F4A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351D-F1B9-49E2-BD5E-55E183D5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052B-6928-4A23-875D-21808BE0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B18A-E00F-442C-AB26-52BF916B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4E5D-992D-4342-A8F7-2F9316AD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B6A8-3337-4845-BA06-92723264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6B80-A10F-4508-B452-73EC9821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A32D-4ABE-495B-91D6-A8EB02A0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B783-8F7B-4543-80D1-1A531DA0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D920-41EB-42F0-840E-86F33997B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Biodivers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uggestions for international school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Genetic d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pecies d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Ecosystem d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History of biodiversity / Ev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Worth of biodivers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Ecolog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Econom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Threats of biodivers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Climate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Pol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Invasive spe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Protection of biodivers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In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trate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Conser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mparison /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ative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ortra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conomic 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mpanio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cc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vasive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rcRect l="15001" t="19500" r="11473" b="10459"/>
          <a:stretch/>
        </p:blipFill>
        <p:spPr>
          <a:xfrm>
            <a:off x="0" y="549360"/>
            <a:ext cx="914400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1T10:48:45Z</dcterms:created>
  <dc:creator>Bottzeck</dc:creator>
  <dc:description/>
  <dc:language>en-US</dc:language>
  <cp:lastModifiedBy>Bottzeck</cp:lastModifiedBy>
  <dcterms:modified xsi:type="dcterms:W3CDTF">2008-06-01T12:09:14Z</dcterms:modified>
  <cp:revision>2</cp:revision>
  <dc:subject/>
  <dc:title>Biodiversity</dc:title>
</cp:coreProperties>
</file>